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99A-8E54-435F-9A8C-1EC0CEEF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47B-0048-4F47-8A51-0D1143EE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D9C-0246-4842-A1D7-8B83F489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2CE-F8E7-41A3-809F-7EB5113D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6AA6-0ABB-4C16-83AB-27552C7F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2350-A7BC-4217-9ED4-6303C131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FA87-66F0-4DEC-9D71-935F2360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D260-4340-4A12-BAE6-14109917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9695-78EE-4EAC-90A8-9241EB37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BA06-EE65-4628-9864-E66AC318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81F6-D890-4F53-8BE7-27B5F908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5FC-FFC3-416A-A3FB-36AB0382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EE08-B5D4-4A40-9A00-B6778EC5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5E1A-AC49-4427-9EE5-AF6E8AF2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6128-95F5-421E-AA2F-AB19E4AE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DC93-D157-426E-B4BF-C5DBB307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4A98-33F5-4AC1-81FF-550A9FA9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8FF-2568-4FDD-8AB2-6883FCD7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854-F49F-49DB-A0AF-4DEBB27B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4FD-DEEC-45CF-84B8-E434B7DB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192-8FBF-4694-8FEF-61967B71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92D-7354-4B8B-8367-53BDF0AF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829-2503-4A99-8457-13864BC7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CA8-0108-4229-800F-FB779490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3560" cy="4873680"/>
            <a:chOff x="0" y="0"/>
            <a:chExt cx="8683560" cy="48736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6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2680" cy="179280"/>
              <a:chOff x="380880" y="1417680"/>
              <a:chExt cx="8302680" cy="1792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5560" cy="179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2680" cy="0"/>
              </a:xfrm>
              <a:prstGeom prst="line">
                <a:avLst/>
              </a:prstGeom>
              <a:ln cap="sq"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82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28AC4-CB59-4731-BDF6-4A8899FCA7B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59880" cy="5940360"/>
            <a:chOff x="0" y="0"/>
            <a:chExt cx="8759880" cy="59403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49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59880" cy="2435040"/>
              <a:chOff x="0" y="3505320"/>
              <a:chExt cx="8759880" cy="24350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69160" cy="24350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5320" cy="21351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7480" cy="0"/>
              </a:xfrm>
              <a:prstGeom prst="line">
                <a:avLst/>
              </a:prstGeom>
              <a:ln cap="sq"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4080" cy="301680"/>
              <a:chOff x="635040" y="533520"/>
              <a:chExt cx="8074080" cy="30168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5400" cy="30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4080" cy="0"/>
              </a:xfrm>
              <a:prstGeom prst="line">
                <a:avLst/>
              </a:prstGeom>
              <a:ln cap="sq"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960" y="625140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8D3C3-84BA-4F76-B60A-E49FE7576AF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Электрическая цепь и ее составные част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ишина Л.А., учитель физ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КС(К) ОУ С  (К) ОШ 3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II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Новосиби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словное обозначение реоста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перемещаемого движка  2 можно увеличивать или уменьшать величину сопротивления (между контактами 1 и 2 ), включаемого в электрическую цеп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58128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Интересно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ецкий  профессор Г.К. Лихтенберг   из Геттенгена  первый предложил ввести электрические  символы, обосновал их практическое применение и использовал  в своих работах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годаря ему,  в электротехнике появляются математические знаки плюс и минус для обозначения электрических заря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ЭЛЕКТРИЧЕСКИЕ ЦЕП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того чтобы создать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ический ток, необходимо составить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мкнутую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лектрическую цепь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электрических приб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08360" y="2389320"/>
            <a:ext cx="41529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амая простая электрическая цепь состоит из 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источника то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требителя электроэнергии  (лампа, электроплитка, электродвигатель, электрокипятильник, электробытовые прибор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замыкающего и размыкающего устройства(выключатель, кнопка, ключ, рубильник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соединительных проводов 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Электрическая цеп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ейшая электрическая цепь, которая состоит из гальваничес-кого элемента, лампы и клю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0481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Электрическая сх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тежи, на которых показано, как электрические приборы соединены в цепь, называютс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лектрическими схе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5053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Условные обозна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электрических схемах все элементы электрической цепи имеют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словные обозначения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лементы Цеп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8360" y="1665360"/>
            <a:ext cx="7974000" cy="48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лемен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- гальванический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- батарея элементов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- соединение проводов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- пересечение проводов на схеме без соединени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- зажимы для подключени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- ключ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- электрическая ламп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- электрический звонок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- резистор ( или иначе сопротивление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- нагревательный элемен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 - предохран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ОСТАТ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ществую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противления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ичину которых можно плавно изменя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могут быть переменные резисторы или сопротивления, называемы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остат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504960" cy="2361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62520" y="4495680"/>
            <a:ext cx="5029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0-02-03T17:11:1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